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DAD-DF71-461E-A666-7DEE8D3B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E22-CB09-4C86-96A2-E705783B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8B9-22A3-405A-9CD1-B14AB607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861-80BE-41C7-B884-B2C81F99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E6D-4B6B-4EBD-9FA6-A14AD51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2CC-E846-4BB4-93DE-1DE6BB82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489-A863-401E-8069-AB3BCC39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8F6-9D1B-42A5-8657-311991A9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67D-70AA-4AB1-B12D-C3DC447B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4D1-2EE6-4876-A088-5ACC990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C18-91F6-481C-9CE6-B4D4038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B74-7990-479F-B4B6-60051D6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D73-40A1-4D3B-842D-353F8FE2E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ather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n water goes from a liquid to a gas it is called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n water goes from a gas to a liquid it is called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can hold more ______ 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 Weather changes from day to day, versus _______ is the weather averaged over a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 _________is the state of our atmosphere on a day to day basis, with respect to temperature and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676520"/>
            <a:ext cx="1981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114300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7.40741E-007 C 0.00365 0.01319 0.00938 0.02477 0.0139 0.0375 C 0.01719 0.04606 0.01876 0.05509 0.0231 0.06319 C 0.02483 0.07338 0.02744 0.08009 0.03212 0.08889 C 0.0389 0.11713 0.05417 0.13842 0.06806 0.16042 C 0.07396 0.17014 0.07796 0.18264 0.08594 0.18958 C 0.09584 0.20903 0.07883 0.17685 0.09358 0.2 C 0.0948 0.20185 0.09515 0.20463 0.09619 0.20671 C 0.10018 0.21435 0.10504 0.22106 0.10886 0.22893 C 0.11094 0.23657 0.1165 0.2412 0.12049 0.24768 C 0.12761 0.26018 0.12223 0.25671 0.12952 0.25972 C 0.13282 0.26597 0.14567 0.28912 0.14862 0.29213 C 0.15765 0.30023 0.16667 0.3081 0.1757 0.3162 C 0.1823 0.32222 0.18837 0.32963 0.19601 0.33333 C 0.20174 0.33866 0.20695 0.34537 0.21285 0.35023 C 0.21407 0.35254 0.21459 0.35579 0.21667 0.35717 C 0.22015 0.35949 0.2283 0.36065 0.2283 0.36065 C 0.23317 0.36528 0.23837 0.36273 0.24497 0.36412 C 0.27518 0.36991 0.29983 0.37153 0.33212 0.37245 C 0.52136 0.36944 0.7106 0.36504 0.90001 0.37083 C 0.91285 0.37639 0.89376 0.36759 0.90765 0.37592 C 0.91008 0.37731 0.91528 0.3794 0.91528 0.3794 C 0.91806 0.38171 0.92049 0.38403 0.9231 0.38634 C 0.92414 0.38727 0.92344 0.39004 0.92431 0.39143 C 0.92587 0.39375 0.92987 0.3956 0.93212 0.39653 C 0.93872 0.40532 0.94636 0.41157 0.95365 0.41875 C 0.95903 0.42384 0.96268 0.42963 0.96928 0.43241 C 0.97396 0.43657 0.97865 0.43842 0.98334 0.44259 C 0.98942 0.44792 0.99324 0.45347 0.99983 0.45625 C 1.00574 0.4618 1.01146 0.4662 1.01806 0.46991 C 1.02796 0.47546 1.02726 0.47963 1.03855 0.48194 C 1.04254 0.4875 1.0474 0.49653 1.05261 0.50069 C 1.05765 0.51018 1.06476 0.51898 1.07171 0.52639 C 1.07414 0.53148 1.08699 0.55254 1.08855 0.55347 C 1.09306 0.55787 1.09306 0.55741 1.09723 0.56389 C 1.10383 0.57407 1.10938 0.58518 1.11667 0.59467 C 1.11962 0.60579 1.12778 0.61296 1.13074 0.62361 C 1.13629 0.64398 1.14098 0.66227 1.14358 0.68356 C 1.14237 0.76342 1.16129 0.75949 1.13473 0.77083 C 1.03681 0.89861 1.13056 0.78102 0.74879 0.7794 C 0.63004 0.7743 0.51268 0.76944 0.39358 0.76736 C 0.30209 0.76829 0.2106 0.76713 0.11928 0.77083 C 0.10574 0.77129 0.08907 0.77963 0.07553 0.78287 C 0.0698 0.78819 0.06459 0.79028 0.05765 0.79305 C 0.0533 0.79676 0.04584 0.80116 0.04098 0.80324 C 0.03785 0.80995 0.03542 0.80926 0.03074 0.81366 C 0.02605 0.81805 0.02344 0.82315 0.01806 0.82546 C 0.01112 0.83472 0.00261 0.84004 -0.00503 0.84768 C -0.01284 0.85555 -0.00485 0.85162 -0.01406 0.85463 C -0.02031 0.8669 -0.03142 0.87847 -0.04236 0.88194 C -0.04843 0.89444 -0.06006 0.9037 -0.06788 0.91435 C -0.07986 0.93055 -0.09131 0.94676 -0.10381 0.96227 C -0.11058 0.9706 -0.11788 0.98611 -0.12569 0.99305 C -0.12777 1.00162 -0.13333 1.00625 -0.13715 1.01366 C -0.1434 1.02592 -0.14913 1.03958 -0.15902 1.04768 C -0.16163 1.05879 -0.15815 1.04699 -0.16527 1.05972 C -0.17534 1.07754 -0.16041 1.05671 -0.1717 1.07176 C -0.17499 1.08264 -0.17986 1.09143 -0.18333 1.10254 C -0.18663 1.11319 -0.18906 1.1243 -0.19236 1.13495 C -0.19426 1.17546 -0.19913 1.21852 -0.18194 1.25301 C -0.17795 1.26111 -0.17725 1.26991 -0.1717 1.27685 C -0.16249 1.30208 -0.14392 1.32083 -0.12951 1.34004 C -0.12777 1.34236 -0.12499 1.34305 -0.12308 1.34514 C -0.10815 1.36273 -0.10902 1.36829 -0.08975 1.37592 C 0.27883 1.37477 0.64792 1.37454 1.01667 1.37245 C 1.02344 1.37245 1.08074 1.36643 1.08855 1.36574 C 1.0941 1.36528 1.10521 1.36412 1.10521 1.36412 C 1.13976 1.35602 1.12466 1.35833 1.15001 1.35555 C 1.19341 1.33912 1.24601 1.34352 1.29098 1.33842 C 1.30157 1.33333 1.31233 1.33055 1.3231 1.32639 C 1.32657 1.32361 1.32987 1.32037 1.33334 1.31782 C 1.33629 1.31574 1.34237 1.31713 1.34237 1.31273 C 1.34445 1.03125 1.34098 0.74977 1.33976 0.46829 C 1.33959 0.41898 1.3264 0.37176 1.31667 0.32477 C 1.3033 0.25995 1.29254 0.19722 1.2731 0.13495 C 1.25921 0.09028 1.23855 0.05463 1.2231 0.0118 C 1.21303 -0.01574 1.20122 -0.03982 1.18855 -0.06505 C 1.17518 -0.09144 1.16424 -0.12616 1.14723 -0.14884 C 1.13959 -0.15926 1.13004 -0.16667 1.12171 -0.17616 C 1.10799 -0.19236 1.09428 -0.20579 1.07952 -0.2206 C 1.06199 -0.2382 1.04428 -0.26482 1.02171 -0.26852 C 1.01546 -0.27222 1.01077 -0.27546 1.00383 -0.27708 C 0.99792 -0.27847 0.98594 -0.28033 0.98594 -0.28033 C 0.96945 -0.28912 0.97518 -0.28727 0.94358 -0.28727 C 0.73421 -0.28796 0.52483 -0.28611 0.31546 -0.28565 C 0.29133 -0.28449 0.26546 -0.28704 0.24237 -0.27708 C 0.23247 -0.26806 0.21945 -0.26435 0.20765 -0.26158 C 0.19966 -0.2544 0.18872 -0.24676 0.17952 -0.24283 C 0.17535 -0.23912 0.17101 -0.23773 0.16667 -0.23426 C 0.16199 -0.23056 0.15799 -0.22639 0.15261 -0.22408 C 0.14063 -0.2125 0.12362 -0.20509 0.11008 -0.19676 C 0.10261 -0.1919 0.09914 -0.18426 0.09098 -0.18125 C 0.0849 -0.17639 0.07917 -0.17083 0.0731 -0.16597 C 0.07171 -0.1632 0.07101 -0.15972 0.06928 -0.15741 C 0.06824 -0.15602 0.0665 -0.15695 0.06546 -0.15556 C 0.05817 -0.14583 0.05626 -0.13588 0.04723 -0.12662 C 0.04462 -0.1206 0.0415 -0.1169 0.03716 -0.11296 C 0.03108 -0.0956 0.03855 -0.11435 0.03074 -0.10255 C 0.02796 -0.09838 0.0231 -0.08889 0.0231 -0.08889 C 0.02084 -0.07917 0.01615 -0.06945 0.01164 -0.06158 C 0.00973 -0.05833 0.00643 -0.05139 0.00643 -0.05139 C 0.00504 -0.0463 0.00383 -0.04121 0.00261 -0.03588 C 0.0014 -0.02222 7.22222E-006 -0.01389 7.22222E-006 -7.40741E-007 Z">
                                      <p:cBhvr>
                                        <p:cTn id="6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 occurs at the dew point temper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er air can hold more ______  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_____ ______ is the temperature at which condensation in the air begins, forming dew, fog, or clou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outside air temperature is 48 and the dew point temperature is 50 then you ________ expect dew or condensation to occ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_______ is a collection of small water droplets or ice crystals suspended in the 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_  ______ are solid particles (dust, pollen, salt) in the atmosphere that provides the surface on which water vapor cond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1371600"/>
            <a:ext cx="2133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21764"/>
          <a:stretch/>
        </p:blipFill>
        <p:spPr>
          <a:xfrm>
            <a:off x="0" y="152280"/>
            <a:ext cx="175248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ir rises it _____, and condensation takes place forming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ir temperature on the weather symbol ab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ew point on the weather symbol ab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ir temp., and dew point on the weather symbol, would you expect fog and de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clouds are fluffy,____clouds are made of Ice crystals and ____ clouds are layered or sheet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905120"/>
            <a:ext cx="21337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04920" y="-114300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838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04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66760" y="304920"/>
            <a:ext cx="419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66680"/>
            <a:ext cx="533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7.40741E-007 C 0.00365 0.01319 0.00938 0.02477 0.0139 0.0375 C 0.01719 0.04606 0.01876 0.05509 0.0231 0.06319 C 0.02483 0.07338 0.02744 0.08009 0.03212 0.08889 C 0.0389 0.11713 0.05417 0.13842 0.06806 0.16042 C 0.07396 0.17014 0.07796 0.18264 0.08594 0.18958 C 0.09584 0.20903 0.07883 0.17685 0.09358 0.2 C 0.0948 0.20185 0.09515 0.20463 0.09619 0.20671 C 0.10018 0.21435 0.10504 0.22106 0.10886 0.22893 C 0.11094 0.23657 0.1165 0.2412 0.12049 0.24768 C 0.12761 0.26018 0.12223 0.25671 0.12952 0.25972 C 0.13282 0.26597 0.14567 0.28912 0.14862 0.29213 C 0.15765 0.30023 0.16667 0.3081 0.1757 0.3162 C 0.1823 0.32222 0.18837 0.32963 0.19601 0.33333 C 0.20174 0.33866 0.20695 0.34537 0.21285 0.35023 C 0.21407 0.35254 0.21459 0.35579 0.21667 0.35717 C 0.22015 0.35949 0.2283 0.36065 0.2283 0.36065 C 0.23317 0.36528 0.23837 0.36273 0.24497 0.36412 C 0.27518 0.36991 0.29983 0.37153 0.33212 0.37245 C 0.52136 0.36944 0.7106 0.36504 0.90001 0.37083 C 0.91285 0.37639 0.89376 0.36759 0.90765 0.37592 C 0.91008 0.37731 0.91528 0.3794 0.91528 0.3794 C 0.91806 0.38171 0.92049 0.38403 0.9231 0.38634 C 0.92414 0.38727 0.92344 0.39004 0.92431 0.39143 C 0.92587 0.39375 0.92987 0.3956 0.93212 0.39653 C 0.93872 0.40532 0.94636 0.41157 0.95365 0.41875 C 0.95903 0.42384 0.96268 0.42963 0.96928 0.43241 C 0.97396 0.43657 0.97865 0.43842 0.98334 0.44259 C 0.98942 0.44792 0.99324 0.45347 0.99983 0.45625 C 1.00574 0.4618 1.01146 0.4662 1.01806 0.46991 C 1.02796 0.47546 1.02726 0.47963 1.03855 0.48194 C 1.04254 0.4875 1.0474 0.49653 1.05261 0.50069 C 1.05765 0.51018 1.06476 0.51898 1.07171 0.52639 C 1.07414 0.53148 1.08699 0.55254 1.08855 0.55347 C 1.09306 0.55787 1.09306 0.55741 1.09723 0.56389 C 1.10383 0.57407 1.10938 0.58518 1.11667 0.59467 C 1.11962 0.60579 1.12778 0.61296 1.13074 0.62361 C 1.13629 0.64398 1.14098 0.66227 1.14358 0.68356 C 1.14237 0.76342 1.16129 0.75949 1.13473 0.77083 C 1.03681 0.89861 1.13056 0.78102 0.74879 0.7794 C 0.63004 0.7743 0.51268 0.76944 0.39358 0.76736 C 0.30209 0.76829 0.2106 0.76713 0.11928 0.77083 C 0.10574 0.77129 0.08907 0.77963 0.07553 0.78287 C 0.0698 0.78819 0.06459 0.79028 0.05765 0.79305 C 0.0533 0.79676 0.04584 0.80116 0.04098 0.80324 C 0.03785 0.80995 0.03542 0.80926 0.03074 0.81366 C 0.02605 0.81805 0.02344 0.82315 0.01806 0.82546 C 0.01112 0.83472 0.00261 0.84004 -0.00503 0.84768 C -0.01284 0.85555 -0.00485 0.85162 -0.01406 0.85463 C -0.02031 0.8669 -0.03142 0.87847 -0.04236 0.88194 C -0.04843 0.89444 -0.06006 0.9037 -0.06788 0.91435 C -0.07986 0.93055 -0.09131 0.94676 -0.10381 0.96227 C -0.11058 0.9706 -0.11788 0.98611 -0.12569 0.99305 C -0.12777 1.00162 -0.13333 1.00625 -0.13715 1.01366 C -0.1434 1.02592 -0.14913 1.03958 -0.15902 1.04768 C -0.16163 1.05879 -0.15815 1.04699 -0.16527 1.05972 C -0.17534 1.07754 -0.16041 1.05671 -0.1717 1.07176 C -0.17499 1.08264 -0.17986 1.09143 -0.18333 1.10254 C -0.18663 1.11319 -0.18906 1.1243 -0.19236 1.13495 C -0.19426 1.17546 -0.19913 1.21852 -0.18194 1.25301 C -0.17795 1.26111 -0.17725 1.26991 -0.1717 1.27685 C -0.16249 1.30208 -0.14392 1.32083 -0.12951 1.34004 C -0.12777 1.34236 -0.12499 1.34305 -0.12308 1.34514 C -0.10815 1.36273 -0.10902 1.36829 -0.08975 1.37592 C 0.27883 1.37477 0.64792 1.37454 1.01667 1.37245 C 1.02344 1.37245 1.08074 1.36643 1.08855 1.36574 C 1.0941 1.36528 1.10521 1.36412 1.10521 1.36412 C 1.13976 1.35602 1.12466 1.35833 1.15001 1.35555 C 1.19341 1.33912 1.24601 1.34352 1.29098 1.33842 C 1.30157 1.33333 1.31233 1.33055 1.3231 1.32639 C 1.32657 1.32361 1.32987 1.32037 1.33334 1.31782 C 1.33629 1.31574 1.34237 1.31713 1.34237 1.31273 C 1.34445 1.03125 1.34098 0.74977 1.33976 0.46829 C 1.33959 0.41898 1.3264 0.37176 1.31667 0.32477 C 1.3033 0.25995 1.29254 0.19722 1.2731 0.13495 C 1.25921 0.09028 1.23855 0.05463 1.2231 0.0118 C 1.21303 -0.01574 1.20122 -0.03982 1.18855 -0.06505 C 1.17518 -0.09144 1.16424 -0.12616 1.14723 -0.14884 C 1.13959 -0.15926 1.13004 -0.16667 1.12171 -0.17616 C 1.10799 -0.19236 1.09428 -0.20579 1.07952 -0.2206 C 1.06199 -0.2382 1.04428 -0.26482 1.02171 -0.26852 C 1.01546 -0.27222 1.01077 -0.27546 1.00383 -0.27708 C 0.99792 -0.27847 0.98594 -0.28033 0.98594 -0.28033 C 0.96945 -0.28912 0.97518 -0.28727 0.94358 -0.28727 C 0.73421 -0.28796 0.52483 -0.28611 0.31546 -0.28565 C 0.29133 -0.28449 0.26546 -0.28704 0.24237 -0.27708 C 0.23247 -0.26806 0.21945 -0.26435 0.20765 -0.26158 C 0.19966 -0.2544 0.18872 -0.24676 0.17952 -0.24283 C 0.17535 -0.23912 0.17101 -0.23773 0.16667 -0.23426 C 0.16199 -0.23056 0.15799 -0.22639 0.15261 -0.22408 C 0.14063 -0.2125 0.12362 -0.20509 0.11008 -0.19676 C 0.10261 -0.1919 0.09914 -0.18426 0.09098 -0.18125 C 0.0849 -0.17639 0.07917 -0.17083 0.0731 -0.16597 C 0.07171 -0.1632 0.07101 -0.15972 0.06928 -0.15741 C 0.06824 -0.15602 0.0665 -0.15695 0.06546 -0.15556 C 0.05817 -0.14583 0.05626 -0.13588 0.04723 -0.12662 C 0.04462 -0.1206 0.0415 -0.1169 0.03716 -0.11296 C 0.03108 -0.0956 0.03855 -0.11435 0.03074 -0.10255 C 0.02796 -0.09838 0.0231 -0.08889 0.0231 -0.08889 C 0.02084 -0.07917 0.01615 -0.06945 0.01164 -0.06158 C 0.00973 -0.05833 0.00643 -0.05139 0.00643 -0.05139 C 0.00504 -0.0463 0.00383 -0.04121 0.00261 -0.03588 C 0.0014 -0.02222 7.22222E-006 -0.01389 7.22222E-006 -7.40741E-007 Z">
                                      <p:cBhvr>
                                        <p:cTn id="12" dur="1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n) _____ is a large body of air that has the similar temperature and moisture cont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ater droplets form around dust particles and become heavy enough to fall out of the clouds, we have 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an form on surfaces (grass) at ______ when the air is clear because the air near the ground cools to the _____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ever air rises, it cools, and______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-pressure systems mean _____ weather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pressure means good weather because the air is _____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2971800"/>
            <a:ext cx="1981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y,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14300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7.40741E-007 C 0.00365 0.01319 0.00938 0.02477 0.0139 0.0375 C 0.01719 0.04606 0.01876 0.05509 0.0231 0.06319 C 0.02483 0.07338 0.02744 0.08009 0.03212 0.08889 C 0.0389 0.11713 0.05417 0.13842 0.06806 0.16042 C 0.07396 0.17014 0.07796 0.18264 0.08594 0.18958 C 0.09584 0.20903 0.07883 0.17685 0.09358 0.2 C 0.0948 0.20185 0.09515 0.20463 0.09619 0.20671 C 0.10018 0.21435 0.10504 0.22106 0.10886 0.22893 C 0.11094 0.23657 0.1165 0.2412 0.12049 0.24768 C 0.12761 0.26018 0.12223 0.25671 0.12952 0.25972 C 0.13282 0.26597 0.14567 0.28912 0.14862 0.29213 C 0.15765 0.30023 0.16667 0.3081 0.1757 0.3162 C 0.1823 0.32222 0.18837 0.32963 0.19601 0.33333 C 0.20174 0.33866 0.20695 0.34537 0.21285 0.35023 C 0.21407 0.35254 0.21459 0.35579 0.21667 0.35717 C 0.22015 0.35949 0.2283 0.36065 0.2283 0.36065 C 0.23317 0.36528 0.23837 0.36273 0.24497 0.36412 C 0.27518 0.36991 0.29983 0.37153 0.33212 0.37245 C 0.52136 0.36944 0.7106 0.36504 0.90001 0.37083 C 0.91285 0.37639 0.89376 0.36759 0.90765 0.37592 C 0.91008 0.37731 0.91528 0.3794 0.91528 0.3794 C 0.91806 0.38171 0.92049 0.38403 0.9231 0.38634 C 0.92414 0.38727 0.92344 0.39004 0.92431 0.39143 C 0.92587 0.39375 0.92987 0.3956 0.93212 0.39653 C 0.93872 0.40532 0.94636 0.41157 0.95365 0.41875 C 0.95903 0.42384 0.96268 0.42963 0.96928 0.43241 C 0.97396 0.43657 0.97865 0.43842 0.98334 0.44259 C 0.98942 0.44792 0.99324 0.45347 0.99983 0.45625 C 1.00574 0.4618 1.01146 0.4662 1.01806 0.46991 C 1.02796 0.47546 1.02726 0.47963 1.03855 0.48194 C 1.04254 0.4875 1.0474 0.49653 1.05261 0.50069 C 1.05765 0.51018 1.06476 0.51898 1.07171 0.52639 C 1.07414 0.53148 1.08699 0.55254 1.08855 0.55347 C 1.09306 0.55787 1.09306 0.55741 1.09723 0.56389 C 1.10383 0.57407 1.10938 0.58518 1.11667 0.59467 C 1.11962 0.60579 1.12778 0.61296 1.13074 0.62361 C 1.13629 0.64398 1.14098 0.66227 1.14358 0.68356 C 1.14237 0.76342 1.16129 0.75949 1.13473 0.77083 C 1.03681 0.89861 1.13056 0.78102 0.74879 0.7794 C 0.63004 0.7743 0.51268 0.76944 0.39358 0.76736 C 0.30209 0.76829 0.2106 0.76713 0.11928 0.77083 C 0.10574 0.77129 0.08907 0.77963 0.07553 0.78287 C 0.0698 0.78819 0.06459 0.79028 0.05765 0.79305 C 0.0533 0.79676 0.04584 0.80116 0.04098 0.80324 C 0.03785 0.80995 0.03542 0.80926 0.03074 0.81366 C 0.02605 0.81805 0.02344 0.82315 0.01806 0.82546 C 0.01112 0.83472 0.00261 0.84004 -0.00503 0.84768 C -0.01284 0.85555 -0.00485 0.85162 -0.01406 0.85463 C -0.02031 0.8669 -0.03142 0.87847 -0.04236 0.88194 C -0.04843 0.89444 -0.06006 0.9037 -0.06788 0.91435 C -0.07986 0.93055 -0.09131 0.94676 -0.10381 0.96227 C -0.11058 0.9706 -0.11788 0.98611 -0.12569 0.99305 C -0.12777 1.00162 -0.13333 1.00625 -0.13715 1.01366 C -0.1434 1.02592 -0.14913 1.03958 -0.15902 1.04768 C -0.16163 1.05879 -0.15815 1.04699 -0.16527 1.05972 C -0.17534 1.07754 -0.16041 1.05671 -0.1717 1.07176 C -0.17499 1.08264 -0.17986 1.09143 -0.18333 1.10254 C -0.18663 1.11319 -0.18906 1.1243 -0.19236 1.13495 C -0.19426 1.17546 -0.19913 1.21852 -0.18194 1.25301 C -0.17795 1.26111 -0.17725 1.26991 -0.1717 1.27685 C -0.16249 1.30208 -0.14392 1.32083 -0.12951 1.34004 C -0.12777 1.34236 -0.12499 1.34305 -0.12308 1.34514 C -0.10815 1.36273 -0.10902 1.36829 -0.08975 1.37592 C 0.27883 1.37477 0.64792 1.37454 1.01667 1.37245 C 1.02344 1.37245 1.08074 1.36643 1.08855 1.36574 C 1.0941 1.36528 1.10521 1.36412 1.10521 1.36412 C 1.13976 1.35602 1.12466 1.35833 1.15001 1.35555 C 1.19341 1.33912 1.24601 1.34352 1.29098 1.33842 C 1.30157 1.33333 1.31233 1.33055 1.3231 1.32639 C 1.32657 1.32361 1.32987 1.32037 1.33334 1.31782 C 1.33629 1.31574 1.34237 1.31713 1.34237 1.31273 C 1.34445 1.03125 1.34098 0.74977 1.33976 0.46829 C 1.33959 0.41898 1.3264 0.37176 1.31667 0.32477 C 1.3033 0.25995 1.29254 0.19722 1.2731 0.13495 C 1.25921 0.09028 1.23855 0.05463 1.2231 0.0118 C 1.21303 -0.01574 1.20122 -0.03982 1.18855 -0.06505 C 1.17518 -0.09144 1.16424 -0.12616 1.14723 -0.14884 C 1.13959 -0.15926 1.13004 -0.16667 1.12171 -0.17616 C 1.10799 -0.19236 1.09428 -0.20579 1.07952 -0.2206 C 1.06199 -0.2382 1.04428 -0.26482 1.02171 -0.26852 C 1.01546 -0.27222 1.01077 -0.27546 1.00383 -0.27708 C 0.99792 -0.27847 0.98594 -0.28033 0.98594 -0.28033 C 0.96945 -0.28912 0.97518 -0.28727 0.94358 -0.28727 C 0.73421 -0.28796 0.52483 -0.28611 0.31546 -0.28565 C 0.29133 -0.28449 0.26546 -0.28704 0.24237 -0.27708 C 0.23247 -0.26806 0.21945 -0.26435 0.20765 -0.26158 C 0.19966 -0.2544 0.18872 -0.24676 0.17952 -0.24283 C 0.17535 -0.23912 0.17101 -0.23773 0.16667 -0.23426 C 0.16199 -0.23056 0.15799 -0.22639 0.15261 -0.22408 C 0.14063 -0.2125 0.12362 -0.20509 0.11008 -0.19676 C 0.10261 -0.1919 0.09914 -0.18426 0.09098 -0.18125 C 0.0849 -0.17639 0.07917 -0.17083 0.0731 -0.16597 C 0.07171 -0.1632 0.07101 -0.15972 0.06928 -0.15741 C 0.06824 -0.15602 0.0665 -0.15695 0.06546 -0.15556 C 0.05817 -0.14583 0.05626 -0.13588 0.04723 -0.12662 C 0.04462 -0.1206 0.0415 -0.1169 0.03716 -0.11296 C 0.03108 -0.0956 0.03855 -0.11435 0.03074 -0.10255 C 0.02796 -0.09838 0.0231 -0.08889 0.0231 -0.08889 C 0.02084 -0.07917 0.01615 -0.06945 0.01164 -0.06158 C 0.00973 -0.05833 0.00643 -0.05139 0.00643 -0.05139 C 0.00504 -0.0463 0.00383 -0.04121 0.00261 -0.03588 C 0.0014 -0.02222 7.22222E-006 -0.01389 7.22222E-006 -7.40741E-007 Z">
                                      <p:cBhvr>
                                        <p:cTn id="18" dur="1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oisture condenses out of air and falls to the ground as rain, snow, sleet, or hail, we are experiencing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__ forms where two air masses m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, white, feathery clouds usually associated with fair weather are _____ clo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, precipitation and storms occur in _____pressur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 are made of millions of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and most powerful storm (cause the most damage) is the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, layered gray clouds that produce precipitation are _____ clou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1905120"/>
            <a:ext cx="1905120" cy="31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00:33Z</dcterms:created>
  <dc:creator>jfuller</dc:creator>
  <dc:description/>
  <dc:language>en-US</dc:language>
  <cp:lastModifiedBy>jfuller</cp:lastModifiedBy>
  <dcterms:modified xsi:type="dcterms:W3CDTF">2011-12-08T22:49:54Z</dcterms:modified>
  <cp:revision>84</cp:revision>
  <dc:subject/>
  <dc:title>Slide 1</dc:title>
</cp:coreProperties>
</file>